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74B5-6630-4E8D-9FCB-A036110A9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343EA-BCA4-471E-8A13-A3F115DF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E5ED-209A-45A0-9B27-0A14D0E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629A-D85C-4483-A322-4BE2175E4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E9201-FF4F-4FDB-83C1-C9F6E4D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A63FE-D46C-4CA1-99A1-E4822A3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F0F0-613A-496B-9B3F-6B5D9D6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E0F1-BE0D-4FBA-B79D-FE935C6B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8E5B-B271-475A-9406-35840127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A428-3358-4BA8-B5C7-D92A94F7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9DFD-5005-4A83-81AC-2DD905FA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9840-D760-4168-8871-95C493C8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F8475A-C370-4B77-93FF-EE411EA20E46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8520" y="2098800"/>
            <a:ext cx="86025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Acordo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Cooper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Técnica –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6480" y="549360"/>
            <a:ext cx="91569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Vigênc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 ACT vigorará pelo prazo de 60 (sessenta) meses, a contar da publicação no D.O.U., podendo ser prorrogado por igual período, de acordo com o interesse de ambos os partíci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forme o disposto no Art. 21 do Decreto nº 8.726/2016, “[a] cláusula de vigência de que trata o inciso VI do caput do Art. 42 da Lei nº 13.019/2014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2880" y="10652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AGNALDO NOVATO CURADO FIL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 de Benefí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aguinaldo.novato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1576440"/>
            <a:ext cx="7921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Acordo de Cooperação Técnica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desconto de mensalidades associativas 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benefícios previdenciários dos afiliados à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191966"/>
                </a:solidFill>
                <a:latin typeface="Arial"/>
              </a:rPr>
              <a:t>Art. 115, V, da Lei 8.213/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08000" y="10526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Acordo de Cooperação Técnica –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1200" y="1141560"/>
            <a:ext cx="82296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Âmbito dos Acor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9875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cionais – solicitados à Diretoria de Benefícios, desde que possuam unidades representativas em diversos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Aspectos Gera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a e livre manifestação de vontade do associad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utorização para desconto das mensalidades nos benefícios, devidamente assinada pelos afiliad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não recebe remuneração do INSS e nem dos beneficiári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entual de desconto aprovado em Assembleia Ge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egime de mútua cooperação entre os partícipes;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laboração de Plano de Trabal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 u="sng">
                <a:solidFill>
                  <a:srgbClr val="0070c0"/>
                </a:solidFill>
                <a:uFillTx/>
                <a:latin typeface="Calibri Light"/>
                <a:ea typeface="Microsoft YaHei"/>
              </a:rPr>
              <a:t>Plano de Trabalh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84464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  <a:ea typeface="Microsoft YaHei"/>
              </a:rPr>
              <a:t>O Plano de Trabalho, que é parte integrante do ACORDO, conterá os procedimentos operacionais para a execução do objeto, que terá início a partir da sua publicação no Diário Oficial da União – DOU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scalização preven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brigação da entidade na coleta prévia da autorização dos segurados e seu arquivamento para fiscalização por parte do IN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deve organizar todas as autorizações na ordem solicitada pelo INSS, com vistas na agilização e eficiência durante a fisc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 INSS realiza periodicamente fiscalizações ordinárias e extraordinár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s fiscalizações periódicas o objetivo é comprovar a existência e a regularidade dos formulários de autorização assinados pelos segu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5960" y="777960"/>
            <a:ext cx="7886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8560" y="1413000"/>
            <a:ext cx="7975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utorizações não encontradas são excluídas e a entidade restitui os valores ao beneficiário, corrigidos, com glosa pelo INSS sobre os montantes recebidos pelo Acord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assinatura da autorização não reconhecida pelo afiliado da entidade, a mesma responderá civil e penal, com devolução dos valores e glosa sobre os mont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scontos irregulares são encaminhados ao MPF para fins de apuração de responsabilidade civil e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dênticas providências são tomadas em casos de descontos maiores do que o devido, ou a título diverso do de mensalidade associ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ivo rigor nas fiscalizações culminando inclusive em punições a ent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30864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530360"/>
          <a:ext cx="8148240" cy="4754160"/>
        </p:xfrm>
        <a:graphic>
          <a:graphicData uri="http://schemas.openxmlformats.org/drawingml/2006/table">
            <a:tbl>
              <a:tblPr/>
              <a:tblGrid>
                <a:gridCol w="563400"/>
                <a:gridCol w="1951560"/>
                <a:gridCol w="1434960"/>
                <a:gridCol w="4198320"/>
              </a:tblGrid>
              <a:tr h="67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B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3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informado pelo associado no limite de R$ 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0.7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AP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Urbano e 2% Rural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TR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NAPI/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A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I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1760" y="69228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ts val="3824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544760" y="0"/>
            <a:ext cx="1212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4360" y="6381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1530360"/>
          <a:ext cx="8065800" cy="4754160"/>
        </p:xfrm>
        <a:graphic>
          <a:graphicData uri="http://schemas.openxmlformats.org/drawingml/2006/table">
            <a:tbl>
              <a:tblPr/>
              <a:tblGrid>
                <a:gridCol w="581040"/>
                <a:gridCol w="2129400"/>
                <a:gridCol w="1261800"/>
                <a:gridCol w="4093560"/>
              </a:tblGrid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do (SM) vig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1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FR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(SM) Antigos e 1,5% (VB) No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AM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 até o máximo de R$ 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F/CNTT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RAAPI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AAM –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G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Joselias Castro Amorim - INSSRN</cp:lastModifiedBy>
  <cp:lastPrinted>2018-12-05T12:47:30Z</cp:lastPrinted>
  <dcterms:modified xsi:type="dcterms:W3CDTF">2018-12-05T12:52:02Z</dcterms:modified>
  <cp:revision>43</cp:revision>
  <dc:subject/>
  <dc:title>Slide 1</dc:title>
</cp:coreProperties>
</file>